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C76-A116-4022-BF9E-FABF2A11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E4A-5869-4BD1-8CA2-84C69363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A5B-9511-4F1D-BD63-D8C42986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C61-E27B-403C-A14C-39F6CA8B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C10-C57C-41DD-BC36-A443B8D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7E9-9509-47D8-B70A-48C0652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2C3-9118-4708-96D3-208A277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B17-4C43-4B13-9FD8-10B12C17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8F3-878A-4B6C-BE5A-55CCD5F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AF8-BD43-4333-9E2D-5F50C86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668-50AE-4006-AC36-3C6785E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363-8130-4D4A-B511-81B076C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AEC-46BB-4A03-B000-D8B13ADA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"Ladies and gentlemen, Welcome to Mwanza International Airport, the Gateway to Central Africa. Please remain seated until the aircraft has come to a complete stop. For those of you with a window seat, you will have noticed that the runway has moved since last time we were her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A difficult cabin announcement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aat5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341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Never mind, we’ll just paddle to the terminal building..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taat6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8148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”… 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and dry off in the sun...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aat8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578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00:32:06Z</dcterms:created>
  <dc:creator>Rotherham</dc:creator>
  <dc:description/>
  <dc:language>en-US</dc:language>
  <cp:lastModifiedBy>HP USER</cp:lastModifiedBy>
  <dcterms:modified xsi:type="dcterms:W3CDTF">2000-02-25T18:46:24Z</dcterms:modified>
  <cp:revision>6</cp:revision>
  <dc:subject/>
  <dc:title>No Slide Title</dc:title>
</cp:coreProperties>
</file>