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C00-37CB-4AA4-88D6-78FDE83D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5D0-C133-4C26-BACC-6AF5EBDB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CFE-9799-46E2-98B2-2920C741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448-5420-42DE-9454-390A5366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70B-E5AE-47F4-BC1A-21018F12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B15-7C55-481D-BC37-E40DA137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801-F2B8-4153-ACED-F8566999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3E3-AE23-40BA-8C1C-CB935F76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D3C-A877-4966-83E3-83B90CF3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300-BDB9-4FE3-89E0-D0DF0BE2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BDE-05B7-44C0-9703-22FA6FCD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F5E-F898-4202-8221-2A19A70C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B9F-BFC2-4F49-9CD6-13CBA60FA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"Ladies and gentlemen, Welcome to Mwanza International Airport, the Gateway to Central Africa. Please remain seated until the aircraft has come to a complete stop. For those of you with a window seat, you will have noticed that the runway has moved since last time we were her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Comic Sans MS"/>
              </a:rPr>
              <a:t>A difficult cabin announcement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aat5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2341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”… 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Never mind, we’ll just paddle to the terminal building..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taat6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08148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”… 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and dry off in the sun...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aat8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57800" cy="462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00:32:06Z</dcterms:created>
  <dc:creator>Rotherham</dc:creator>
  <dc:description/>
  <dc:language>en-US</dc:language>
  <cp:lastModifiedBy>HP USER</cp:lastModifiedBy>
  <dcterms:modified xsi:type="dcterms:W3CDTF">2000-02-25T18:46:24Z</dcterms:modified>
  <cp:revision>6</cp:revision>
  <dc:subject/>
  <dc:title>No Slide Title</dc:title>
</cp:coreProperties>
</file>